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77E-565A-4D7C-BE99-1C17412B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C50-8ECE-493C-8CE0-61518333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47E-1B2A-4425-AE90-9E5D31C7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3D1-38FA-4169-8AC3-7DD0BE0F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3AC-4F87-48AF-98C2-A52D8C74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40D-4847-4F53-BC6F-0E8CD52D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4D9-F6A4-443D-BD8C-D4B05855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5F9-0C96-447E-82DD-04879199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9E7-4E4D-4CF1-B592-5ECB606E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009B-27B4-427D-9A6E-DE7D06FB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C30-FAB1-48C6-A805-FC6D5D52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8898-C75C-41E3-A1F3-93AC64A1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4FB1-E15D-4AC5-BD29-992F3519E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com/imgres?imgurl=http://fengshuigooddeeds.files.wordpress.com/2011/04/smiley_big_smile2.gif&amp;imgrefurl=http://fengshuigooddeeds.wordpress.com/&amp;usg=__t8GZ4nhFQarwb7wapSCWipgzJMs=&amp;h=380&amp;w=380&amp;sz=44&amp;hl=en&amp;start=4&amp;zoom=1&amp;tbnid=Mz4Dy2DWFQlEKM:&amp;tbnh=123&amp;tbnw=123&amp;ei=QtXgTvGcCKjw0gG9nrnKCg&amp;prev=/search%3Fq%3Dbig%2Bsmile%26um%3D1%26hl%3Den%26sa%3DX%26gbv%3D2%26tbm%3Disch&amp;um=1&amp;itbs=1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895480" y="205740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Beautiful, Joy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59092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Laug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791320" y="2895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2743200" y="33526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Teeth, Brightness, Darkness,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895480" y="3733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rying, Heart-broken, Disappoi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038480" y="4191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ad, Glo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4343400" y="45720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F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ANd9GcTZAom-8kUFild3eYD58f1NkVPJC2-wRpn1mPQw0WXpAh8fHwRkOnE5-I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171440" cy="1171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1" descr="ANd9GcS1DP6zJgP4ogpKjY8NGjUQ0Mq81URjM0DLj4MS4NqVepmndcWG4vz67w"/>
          <p:cNvPicPr/>
          <p:nvPr/>
        </p:nvPicPr>
        <p:blipFill>
          <a:blip r:embed="rId4"/>
          <a:stretch/>
        </p:blipFill>
        <p:spPr>
          <a:xfrm>
            <a:off x="7772400" y="548640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2"/>
          <p:cNvSpPr/>
          <p:nvPr/>
        </p:nvSpPr>
        <p:spPr>
          <a:xfrm>
            <a:off x="380880" y="6172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: Kristen B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5:04:09Z</dcterms:created>
  <dc:creator>Communications Division</dc:creator>
  <dc:description/>
  <dc:language>en-US</dc:language>
  <cp:lastModifiedBy>12kbode</cp:lastModifiedBy>
  <dcterms:modified xsi:type="dcterms:W3CDTF">2011-12-08T16:03:11Z</dcterms:modified>
  <cp:revision>5</cp:revision>
  <dc:subject/>
  <dc:title>Slide 1</dc:title>
</cp:coreProperties>
</file>